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ct" ContentType="image/x-pict"/>
  <Override PartName="/ppt/media/image11.pct" ContentType="image/x-pict"/>
  <Override PartName="/ppt/media/image14.pct" ContentType="image/x-pict"/>
  <Override PartName="/ppt/media/image2.jpeg" ContentType="image/jpeg"/>
  <Override PartName="/ppt/media/image3.jpeg" ContentType="image/jpeg"/>
  <Override PartName="/ppt/media/image15.pct" ContentType="image/x-pict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9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12.pct" ContentType="image/x-pict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E685-8E09-4A0C-8CF1-0EF4729FE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32A1-238F-4187-A1FC-39B484A4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72CC-CE67-4CCC-878F-11CC39C9B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D536-0F23-46F7-9F21-87FC66E63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C971-5900-4186-A38F-2017FAC47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B018-0A15-4823-A439-FD3848E1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A253-F7C8-4152-BFB9-4B4D0125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D8CA-9733-4A02-867B-22C00E05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85F3-822C-427B-B39B-2220E85F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05D3-A8EC-447E-8A01-A2BCFF15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16AF-DF61-4005-A1DA-E43EE101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B1AA-8132-4AEB-BA87-44F3F5F5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C39FF-8E78-4A34-AF25-AC1D21C0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1C2E-7546-4337-BB80-FCCAD658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546D-28F0-40AE-B9A3-6A1B2AD2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1349-8CB7-4B5F-A3FC-533EBB53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6B84-A23B-4957-95B0-2FD17A10E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89706-E179-4A4D-A89A-04493AB12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2BB1F-F60A-464C-89C4-EA20E2A4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18D04-541D-4F83-A748-6D063007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D00EB-75B3-4133-91BC-6033D9CF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23251-AFCF-44AB-A2EE-50E2D560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D668-F2F8-414C-9908-30F407F2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341D6-5899-40C1-9712-FC25C347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4DFFF-78D7-4F28-B498-81661B9D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647C4-676C-4B2D-B725-A9DBC582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BC787-AC1E-40A8-9AC8-722AD5FC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B7CB0-8F25-4389-89B5-5467A070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66567-DFF5-48DA-A59B-C24A2694D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72793-DE34-4E06-82EC-FBD11CDCA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3A8E5-4575-475A-A204-17B61B4FE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3C802-2CAF-4F43-B48D-F63E288E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F14E9-6B18-4EA4-A480-9C452212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7A06-EC99-4A4B-A03D-EFA21FBB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2031D-38A6-4710-9F73-3EE6C74D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17A93-6ACF-4350-A6A6-D48A14B1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51B7D-97B6-499E-9DE4-E779982B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D9C3F-E361-48BE-BFB9-90AECC48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C98D5-0E17-4F60-B17C-3F39418C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F7F1D-7873-4909-8536-41464EC8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2140A-285A-4FA5-A660-2D181744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86AFF-F0A2-4ACB-82BB-98F65077A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A0AE3-DAAB-4220-AC03-DD1503B26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B44D-9639-47D3-817E-5F3A37E3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C4C5-616F-4D69-B5DB-62EB9EA7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F025-8757-412B-9400-B2AA0345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CB7F-FE6E-42CA-AAA0-4CA37F3A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0847-9B79-465E-AF94-4BFD2E08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1f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db96"/>
                </a:solidFill>
                <a:latin typeface="Verdana"/>
              </a:rPr>
              <a:t>Click to edit the title text format</a:t>
            </a:r>
            <a:endParaRPr b="0" i="1" lang="en-US" sz="4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1f0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db9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b9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db96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ffdb9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b9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db96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ffdb9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b9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db96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ffdb9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b9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db96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ffdb9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b9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db96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ffdb9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b9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db96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ffdb9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b9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1f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1f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1f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A488-00E2-4D91-98DF-01866A03C8D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db96"/>
                </a:solidFill>
                <a:latin typeface="Verdana"/>
              </a:rPr>
              <a:t>Click to edit the title text format</a:t>
            </a:r>
            <a:endParaRPr b="0" i="1" lang="en-US" sz="4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728F-E247-43A5-98D6-F317B409A5A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4A90-8B00-4DBE-A27F-ADF025E50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95AF-C71F-434D-BD84-3EA6B8CB1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image" Target="../media/image9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2.pct"/><Relationship Id="rId6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image" Target="../media/image14.pct"/><Relationship Id="rId5" Type="http://schemas.openxmlformats.org/officeDocument/2006/relationships/image" Target="../media/image15.pct"/><Relationship Id="rId6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3.jpeg"/><Relationship Id="rId7" Type="http://schemas.openxmlformats.org/officeDocument/2006/relationships/image" Target="../media/image9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pct"/><Relationship Id="rId10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what influences &amp; determines population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Investigation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First, set up the Yeast Population La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the lab instructions to prepare a yeast population.  We’ll measure its growth rate over the next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up as instructed when you’re 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Once you’ve got your population set up, and have taken your first measurement of its size, begin the Human Country Comparison ac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Human Population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about conditions in other parts of the world, compare to condition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ef interest is population size and growth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your partn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variables I’m asking you to research, which do you think would best correlate to or impact how quickly a population will gr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Growth Rate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opulations - human, yeast, plant, anything - follow the same general equations for the rate at which their populations g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s = Population at start.  Pe = Population at end, r = growth 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Pe-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Growth Rate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equation is fine if the growth has already happened, but not helpful if we want to predict what’s GOING to hap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re are four events that increase or decrease a population size: Birth, death, immigration, emig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know birth and death.  Immigration = new individual moves in.  Emigration = Individual moves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if you know birth, death, immigration, and emigration rate, what might be the equation for growth r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Growth Rate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 = growth rate, B = birth rate, D = death rate, I = immigration rate, E = emigration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eep in mind that each of these is the RATE, as in “B = number of births/total population,” not just plain “B = number of birth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 = B - D + I -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Biology resources, possibly including MCAS, could leave immigration and emigration out.  In that case, growth = B - 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: questions 2-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logy is the study of groups of living things and their 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pulation is a group (all same species) that share a habi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rate is the rate at which a population size is chang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equations.  The first is better for change that already happened, the second is better for predic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(Pe-Ps)/Ps = B - D + I -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Exponential Growth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504960" y="1371600"/>
            <a:ext cx="5638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ll populations of living things will initially follow a patter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ponential growt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There’s going to be an exception, though, that we’ll get to next perio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so called “J-curv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exponential growth, the more individuals there are, the faster the population gr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, that’s different from “the bigger the population gets”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0" y="2678040"/>
            <a:ext cx="335268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Exponential Growth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d for the way that exponents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nstance, exponential growth of f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71600" y="3235320"/>
          <a:ext cx="3657600" cy="362268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db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db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db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ffdb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db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</a:t>
                      </a:r>
                      <a:endParaRPr b="0" lang="en-US" sz="2800" spc="-1" strike="noStrike">
                        <a:solidFill>
                          <a:srgbClr val="ffdb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db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5</a:t>
                      </a:r>
                      <a:endParaRPr b="0" lang="en-US" sz="2800" spc="-1" strike="noStrike">
                        <a:solidFill>
                          <a:srgbClr val="ffdb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db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5</a:t>
                      </a:r>
                      <a:endParaRPr b="0" lang="en-US" sz="2800" spc="-1" strike="noStrike">
                        <a:solidFill>
                          <a:srgbClr val="ffdb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db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25</a:t>
                      </a:r>
                      <a:endParaRPr b="0" lang="en-US" sz="2800" spc="-1" strike="noStrike">
                        <a:solidFill>
                          <a:srgbClr val="ffdb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db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125</a:t>
                      </a:r>
                      <a:endParaRPr b="0" lang="en-US" sz="2800" spc="-1" strike="noStrike">
                        <a:solidFill>
                          <a:srgbClr val="ffdb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4749840" y="3809880"/>
          <a:ext cx="4394160" cy="2743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49840" y="3809880"/>
                    <a:ext cx="439416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Exponential Growth Curve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tion for Exponential Grow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∆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 = change in population size, N = current population size, r = growth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∆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 = 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Exponential Growth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your partn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n’t populations grow linearly?  Why exponential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Ecology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logy!  What is this?  Where have you seen this root “eco-” bef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Exponential Growth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s grow exponentially because a bigger population has more babies than a smaller one, basicall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opulations grew linearly, then every population - no matter whether it has 60 million individuals or 6 - would have the same number of offspring every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of course, that’s not how things work.  The more potential parents there are, the more children they’ll have.  So bigger populations will grow faster than small 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838080" y="0"/>
            <a:ext cx="8305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The bacteri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scherichia col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E. coli live on your skin.  They split in half, called binary fission, to reproduce asexually.  They do this every 15 minutes. 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ividual finds a patch of your skin that’s miraculously unoccupied so far and starts to reproduce.  How man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there be in the population after 5 hou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A pair of 1-year-old striped bass are dumped into a fishless bay.  These fish produce an average of 250,000 eggs a year.  Five years later, what will the bay’s striped bass population size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member, every two bass will make 250,000 eggs, so it’s simpler to calculate it as 125,000 eggs per one bass.  125,000 = 1.2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143000" cy="11635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0" y="5543640"/>
            <a:ext cx="160020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Recap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8305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logy is the study of groups of living things and their 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pulation is a group (all same species) that share a habi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rate is the rate at which a population size is chang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equations.  The first is better for change that already happened, the second is better for predic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(Pe-Ps)/Ps = B - D + I -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s of all living things follow an exponential pattern of grow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igger the population, the higher its growth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quation for exponential population growth is ∆N = 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Ecology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logy!  What is this?  Where have you seen this root “eco-” befo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cology is the study of groups of organisms, and interactions that they have with each other and their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 and other social justice movements have taken the term “ecology” and used it when coining new words.  They use “eco-” to generally mean environment, as in “eco-friendly,” “ecoterrorist,” “eco-product,” but in science it means the definition I g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Ecology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logy looks 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organisms are in a group, and how are they distribu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e size and location of this group change over t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the members of this group interact with each other?  How do they interact with abiotic elements?  How do they interact with members of other spec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all the groups of organisms in an area create a system of interac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it studies how many organisms live and die, it has a lot of cross-over with environmental studies, so this unit will touch a lot on human impact on other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Ecology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re going to start the unit by talking about the simplest element of this whole system, which is numbers; how many critters are al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’s going to be a specific meaning to a word that you’ve already heard in normal conversational English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p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’s a popul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Population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pulation = A collection of members of the same species who share a geographic area, o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abit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nversational English, people tend to use population to just mean “the number of things in a group.”  We use the word with more precision in sc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pulation isn’t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t’s the group itself. The number of individuals is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opulation 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’s not just any group, it’s a group made up of individuals from the same spec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Population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pulation = A collection of members of the same species who share a geographic area,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abit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e Black-Eyed-Susans in a meadow are a population of Black-Eyed-Sus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oods behind Harwich High School probably have a small population of black-capped chickade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oods of the Upper Cape have a larger population of black-capped chickade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Pond surely has a population of mid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oaf of bread may sadly hav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nicilli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alapagos have a Pinta Island Tortoise population of 1, sad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ough, a bit of good news!  Two years ago, George accepted a lady turtle of a closely related subspecies to be his mate!  Sadly, their eggs proved to be infertile, but at least he’s not so lonesome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9"/>
          <a:stretch/>
        </p:blipFill>
        <p:spPr>
          <a:xfrm>
            <a:off x="0" y="4952880"/>
            <a:ext cx="17319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Population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pulation = A collection of members of the same species who share a geographic area,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abit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new level of organization to add to the ones we already learn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Population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size is fairly straightforward.  It’s just how many individuals are in the pop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row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owever, has some layers we’re going to get i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your partner, brainstorm with respect to huma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etermines how big a population will be this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etermines how big that population will be next y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6:19:24Z</dcterms:created>
  <dc:creator>Rebecca Stang</dc:creator>
  <dc:description/>
  <dc:language>en-US</dc:language>
  <cp:lastModifiedBy>Rebecca Stang</cp:lastModifiedBy>
  <dcterms:modified xsi:type="dcterms:W3CDTF">2010-05-03T00:17:25Z</dcterms:modified>
  <cp:revision>72</cp:revision>
  <dc:subject/>
  <dc:title>Ecology</dc:title>
</cp:coreProperties>
</file>